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9D7F-37CA-46E3-9458-2FBC2D10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612E-F6B4-4061-8BEF-081EC437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7A6-8317-4791-BA9E-A77A514E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692-7983-40C1-A421-4AA15A65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9E67-A71D-4B4E-9D57-A23082C2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C42C-18D2-4029-9B9E-96D77AA2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DA6A-4577-4169-9FA8-A843BAE7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4095-C3CB-401D-9976-4AA71204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0948-2681-44CF-927A-45846EC7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5381-A8AD-465A-9804-9E8D880A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9BDD-95BA-4597-9FEF-53090ACA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C1B9-AA90-43B4-AE86-8F6DAC8B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D158-8D04-4B46-9EF3-707AEBD5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401F-19EA-4EAD-B0D4-5B94E3E9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824D-4652-4B55-B4E5-0806D830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6F64-BA56-432F-AEA4-9A4B8E80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AA7E-C520-470A-AC08-14667418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6551-C55A-4D48-8410-343522F2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ABD-89D9-4F1E-8DC4-82F8C0C4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BFD8-C6FA-468F-A23B-DE96F2CC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489-A8D2-431E-A019-B7644CB4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418-984F-4DCB-B8D4-D9E81458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F40-C412-4254-8B86-5B82C854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D6D-A9FB-43FA-9299-BF398400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48BB-CCBA-4EC7-9E30-2D53B164CA0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FF77-C7D8-4831-B654-8F9DF096FD1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-225360" y="1044720"/>
            <a:ext cx="952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560" y="243828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19320" y="1219320"/>
            <a:ext cx="918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Pirates Vocabul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767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625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2578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436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2132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31160" y="1752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64940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3520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976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970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4920" y="1744560"/>
            <a:ext cx="6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034520" y="182880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2291040" cy="34858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4670280" y="2362320"/>
            <a:ext cx="306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1876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808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814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195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433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579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20080" y="2098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172200" y="213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4190760" cy="31366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36576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91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28052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881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1916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04300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5724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20080" y="2098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946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6019920" y="2895480"/>
            <a:ext cx="1971720" cy="304812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19840" y="209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81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7195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04264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55724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31936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15744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54320" y="216540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5181480" y="2819520"/>
            <a:ext cx="3200400" cy="388620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191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812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8072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916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4300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5579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164200" y="1447920"/>
            <a:ext cx="36399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191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808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8814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71916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0433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3505320" cy="312732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5638680" y="1295280"/>
            <a:ext cx="2633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1876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81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195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433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5579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1936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353240" y="21654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3352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7180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412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49240" y="1793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01240" y="1793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132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35120" y="182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3364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2960" y="179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39840" y="9907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268800" y="2819520"/>
            <a:ext cx="419868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625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242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864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2485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2060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432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0168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8748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4960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70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780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316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1904760" cy="3124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52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242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722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2132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0640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8480" y="1717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64012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3262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9672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688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316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5186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91920" y="5335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343400" y="2971800"/>
            <a:ext cx="4419720" cy="24750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39625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876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808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881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195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0433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579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41148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7150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9480" y="2098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812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8072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4264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5724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197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217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74240" y="30492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731040" y="22096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1684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197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25780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1992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81680" y="2514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876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280880" y="20988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8108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4264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659400" y="20574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0" y="2133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7320" y="2133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9800" y="2133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5946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95680" y="21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343400" cy="353844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30481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80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7524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812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0" y="2286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38680" y="2286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2286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96080" y="22860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66880" y="22860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4724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7632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9072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81412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4356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4444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85324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99596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7200" y="609480"/>
            <a:ext cx="841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06320" y="190512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2809800" y="2438280"/>
            <a:ext cx="3087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767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625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341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19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50640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0402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11520" y="175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32592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66680" y="175248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0440" y="17175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19600" y="1828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279440" y="336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39240" y="182880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181480" y="3352680"/>
            <a:ext cx="3353040" cy="25383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259092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1T15:49:56Z</dcterms:modified>
  <cp:revision>18</cp:revision>
  <dc:subject/>
  <dc:title>No Slide Title</dc:title>
</cp:coreProperties>
</file>